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DB596-A83E-41F9-A551-614F3DA553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Kid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odule 1:  Not a Pretty Picture – The Importance of Children’s Ministry (Mark 10:14)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655FB-408F-4A55-9A3E-7E0ED719FE6E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What’s Wrong with This Picture?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Outsid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 The setting has changed in Mark10:10 from a public one to a private home.  It took place inside a house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Jesus is happy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Children are too old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-- The children who were brought to Jesus were likely infants or young toddlers.  Some scholars believe it was a tradition to bring children at one year of age to a rabbi in a synagogue for his blessing.  And so, it could very well have been that these children were brought to Jesus for His blessing and His prayer for them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Disciples are happy?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 The disciples rebuked the parents.  Why do you think the disciples rebuked the parents?  The disciples were busy learning from Jesus, and so they probably thought,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his just isn’t the time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didn’t appreciate the disruption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3226B-7CE8-48FD-94B2-BE16C24D0304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Contex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ark 10:2-9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Pharisees debated Jesu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tried to trip him up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failed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ark 10:10-12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scene changes to a hous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disciples wanted to know mor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6AEA3-1877-4E00-A37C-3408B0EE6C5F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Parents’ Inten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v. 13.  “Then they brought little children to Him, that He might touch them; but the disciples rebuked those who brought them.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brought young children to Jesu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“They” probably refers to pare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The children are likely toddlers and/or infa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For the purpose of getting Jesus’ blessing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children who were brought to Jesus were likely infants or young toddlers.  Some scholars believe it was a tradition to bring children at one year of age to a rabbi in a synagogue for his blessing.  And so, it could very well have been that these children were brought to Jesus for His blessing and His prayer for them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B9D0F-DEDE-41A5-8DDE-4834229EEAC9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Disciples’ Respons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disciples rebuked the pare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ir attitude: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“This is not the time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“We are doing something more important than blessing children.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73749-6AF2-4078-8D34-825C0B397A9E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Jesus’ Emotion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v. 14.  “But when Jesus saw it, He was greatly displeased and said to them, “Let the little children come to Me, and do not forbid them; for of such  is the kingdom of God.”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!!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 at the disciples’ attitu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eir “discussion” was more important than blessing children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s words were words of rebuk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Jesus was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“angry”, “displeased”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Since Jesus’ emotional reaction is only recorded in Mark, it often gets overlooked.  An artist who paints this scene without studying the Mark account will portray a happy, peaceful occasion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D4DCA-D887-4526-91F9-D8097AAF5158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How We See Children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Attitude #1:  Children are a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bother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wrong!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when it is present, ther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apathy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toward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Attitude #2:  Children are a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too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practica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! when it is present, ther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approva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of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Attitude #3:  Children are our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futur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tru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! when it is present, ther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appreciation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of children’s ministry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Moses reminded the children of Israel of this view of children (Deut 4:40; 6:1-2).  If we don’t minister to children, Christianity will di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Attitude #4:  Children are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peopl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Jesus’!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when it is present, ther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a priorit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21EE7-F24A-407A-8833-6FA0414479AB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Jesus’ Priorit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If ministering to children is that important to Jesus…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hat’s all I need!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5B873-AF6F-43D1-A92F-EFE4D3C817F5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esource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Barna, George.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ransforming Children into Spiritual Champions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Ventura, CA: Regal Books, 2003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Gospel Light.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Children’s Ministry Smart Pages.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Ventura, CA:  Gospel, 2004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London, H.B., Jr., and Neil B. Wiseman.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For Kids’ Sake:  Winning the tug of War for Future Generations.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Ventura, CA:  Regal Books, 2004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BFCCC-A712-4108-A154-1CBAB2C283D0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3D632-166D-4319-A270-707221E4F2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641C2-D8B3-41A0-9CC6-47F8D1E88D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697F9-3FF6-403D-9466-E37AC5C376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932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6056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932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56056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31155-2CF1-4413-80EE-8987B24958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640080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E05F8-2313-4FAD-9859-9ECA535E99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932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56056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932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56056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81CA0-9C4E-4DF1-A6EF-0CA178D434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45C62-B7B7-4A98-8E29-7918E5CFEC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241CA-CC2F-41F4-992D-6EE13FB6A4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640080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9AC6E-44D9-4C52-9924-87C31CA9C6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08C87-00AF-4FA4-A637-CDECAEC56B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138D8-1774-4665-B6D3-FDE03A9DD3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584C4-226C-453F-988D-593ECF2F68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GraphicsFinal10"/>
          <p:cNvPicPr/>
          <p:nvPr/>
        </p:nvPicPr>
        <p:blipFill>
          <a:blip r:embed="rId2"/>
          <a:stretch/>
        </p:blipFill>
        <p:spPr>
          <a:xfrm>
            <a:off x="0" y="0"/>
            <a:ext cx="9144000" cy="20620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8"/>
          <p:cNvSpPr/>
          <p:nvPr/>
        </p:nvSpPr>
        <p:spPr>
          <a:xfrm>
            <a:off x="0" y="5467320"/>
            <a:ext cx="9144000" cy="139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fafd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2" marL="9712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3" marL="13600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4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5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6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3064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Module 1-</a:t>
            </a:r>
            <a:fld id="{FE482A52-C5BA-4687-8D11-6FDEA2E2027A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0" y="6600960"/>
            <a:ext cx="13572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</a:rPr>
              <a:t>®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055"/>
          <p:cNvSpPr/>
          <p:nvPr/>
        </p:nvSpPr>
        <p:spPr>
          <a:xfrm>
            <a:off x="0" y="6600960"/>
            <a:ext cx="28954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  <a:ea typeface="Arial"/>
              </a:rPr>
              <a:t>®</a:t>
            </a: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.  All rights reserved.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2" marL="9712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3" marL="13600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4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5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6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379320" y="4563720"/>
            <a:ext cx="5402520" cy="11890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Humanst521 BT"/>
              </a:rPr>
              <a:t>Module  4A:</a:t>
            </a:r>
            <a:br>
              <a:rPr sz="3800"/>
            </a:br>
            <a:r>
              <a:rPr b="1" lang="en-US" sz="4000" spc="-1" strike="noStrike">
                <a:solidFill>
                  <a:srgbClr val="434c8d"/>
                </a:solidFill>
                <a:latin typeface="Humanst521 BT"/>
              </a:rPr>
              <a:t>Not a Pretty Pictur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1544400" y="247680"/>
            <a:ext cx="660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Leadership Certification, Level III, Course #4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30D95731-9923-47AD-B900-BC5267ECA851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rcRect l="0" t="18286" r="0" b="19059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5617800"/>
            <a:ext cx="9144000" cy="9349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umanst521 BT"/>
              </a:rPr>
              <a:t>What’s </a:t>
            </a:r>
            <a:r>
              <a:rPr b="0" i="1" lang="en-US" sz="4000" spc="-1" strike="noStrike">
                <a:solidFill>
                  <a:srgbClr val="ffffff"/>
                </a:solidFill>
                <a:latin typeface="Humanst521 BT"/>
              </a:rPr>
              <a:t>Wrong</a:t>
            </a:r>
            <a:r>
              <a:rPr b="0" lang="en-US" sz="4000" spc="-1" strike="noStrike">
                <a:solidFill>
                  <a:srgbClr val="ffffff"/>
                </a:solidFill>
                <a:latin typeface="Humanst521 BT"/>
              </a:rPr>
              <a:t> with This Picture?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3" name="AutoShape 5"/>
          <p:cNvSpPr/>
          <p:nvPr/>
        </p:nvSpPr>
        <p:spPr>
          <a:xfrm>
            <a:off x="228600" y="228600"/>
            <a:ext cx="1871640" cy="5317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Outsi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4" name="AutoShape 6"/>
          <p:cNvSpPr/>
          <p:nvPr/>
        </p:nvSpPr>
        <p:spPr>
          <a:xfrm>
            <a:off x="914400" y="3200400"/>
            <a:ext cx="1871640" cy="12193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Children are too old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5" name="AutoShape 7"/>
          <p:cNvSpPr/>
          <p:nvPr/>
        </p:nvSpPr>
        <p:spPr>
          <a:xfrm>
            <a:off x="6313320" y="3657600"/>
            <a:ext cx="2264040" cy="7621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Disciples(?) are happy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5029200" y="304920"/>
            <a:ext cx="1871640" cy="83808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umanst521 BT"/>
              </a:rPr>
              <a:t>Jesus i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umanst521 BT"/>
              </a:rPr>
              <a:t>happy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BE0F148D-F470-4BBF-9EE7-857BA3EAB992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4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C9E82406-42EC-4195-AA4F-021119E2A21D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Contex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560" y="2476440"/>
            <a:ext cx="380988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umanst521 BT"/>
              </a:rPr>
              <a:t>Mark 10:2-9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Pharisees debated Jesu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 tried to trip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m up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 failed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267080" y="2476440"/>
            <a:ext cx="381024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umanst521 BT"/>
              </a:rPr>
              <a:t>Mark 10:10-12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scene changes to a hous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disciples wanted to know mor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E70584F3-7995-4796-BC40-1E54AEF7DBA9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Parents’ Inten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9520" y="2476440"/>
            <a:ext cx="495324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y brought young children to Jesus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” probably ref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o parent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children are likely toddlers and/or infant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For the purpose of getting Jesus’ blessing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05" name="Group 8"/>
          <p:cNvGrpSpPr/>
          <p:nvPr/>
        </p:nvGrpSpPr>
        <p:grpSpPr>
          <a:xfrm>
            <a:off x="-452520" y="830160"/>
            <a:ext cx="5019480" cy="6230880"/>
            <a:chOff x="-452520" y="830160"/>
            <a:chExt cx="5019480" cy="6230880"/>
          </a:xfrm>
        </p:grpSpPr>
        <p:sp>
          <p:nvSpPr>
            <p:cNvPr id="106" name="Freeform 5"/>
            <p:cNvSpPr/>
            <p:nvPr/>
          </p:nvSpPr>
          <p:spPr>
            <a:xfrm rot="595800">
              <a:off x="0" y="1142640"/>
              <a:ext cx="4114440" cy="5605200"/>
            </a:xfrm>
            <a:custGeom>
              <a:avLst/>
              <a:gdLst>
                <a:gd name="textAreaLeft" fmla="*/ 0 w 4114440"/>
                <a:gd name="textAreaRight" fmla="*/ 4114800 w 4114440"/>
                <a:gd name="textAreaTop" fmla="*/ 0 h 5605200"/>
                <a:gd name="textAreaBottom" fmla="*/ 5605560 h 560520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07" name="Freeform 6"/>
            <p:cNvSpPr/>
            <p:nvPr/>
          </p:nvSpPr>
          <p:spPr>
            <a:xfrm rot="595800">
              <a:off x="41760" y="1249200"/>
              <a:ext cx="3981960" cy="5402880"/>
            </a:xfrm>
            <a:custGeom>
              <a:avLst/>
              <a:gdLst>
                <a:gd name="textAreaLeft" fmla="*/ 0 w 3981960"/>
                <a:gd name="textAreaRight" fmla="*/ 3982320 w 3981960"/>
                <a:gd name="textAreaTop" fmla="*/ 0 h 5402880"/>
                <a:gd name="textAreaBottom" fmla="*/ 5403240 h 540288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08" name="Text Box 7"/>
          <p:cNvSpPr/>
          <p:nvPr/>
        </p:nvSpPr>
        <p:spPr>
          <a:xfrm>
            <a:off x="527040" y="1638360"/>
            <a:ext cx="3035160" cy="49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13.  Then they brought little children to Him, that He might touch them;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but the disciples rebuked those who brought them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2432DC05-A07E-4909-94A2-F38DA0A7F02A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0" name="Group 8"/>
          <p:cNvGrpSpPr/>
          <p:nvPr/>
        </p:nvGrpSpPr>
        <p:grpSpPr>
          <a:xfrm>
            <a:off x="-433440" y="935280"/>
            <a:ext cx="4867560" cy="5984640"/>
            <a:chOff x="-433440" y="935280"/>
            <a:chExt cx="4867560" cy="5984640"/>
          </a:xfrm>
        </p:grpSpPr>
        <p:sp>
          <p:nvSpPr>
            <p:cNvPr id="111" name="Freeform 9"/>
            <p:cNvSpPr/>
            <p:nvPr/>
          </p:nvSpPr>
          <p:spPr>
            <a:xfrm rot="595800">
              <a:off x="0" y="1239840"/>
              <a:ext cx="4000320" cy="5375160"/>
            </a:xfrm>
            <a:custGeom>
              <a:avLst/>
              <a:gdLst>
                <a:gd name="textAreaLeft" fmla="*/ 0 w 4000320"/>
                <a:gd name="textAreaRight" fmla="*/ 4000680 w 4000320"/>
                <a:gd name="textAreaTop" fmla="*/ 0 h 5375160"/>
                <a:gd name="textAreaBottom" fmla="*/ 5375520 h 537516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12" name="Freeform 10"/>
            <p:cNvSpPr/>
            <p:nvPr/>
          </p:nvSpPr>
          <p:spPr>
            <a:xfrm rot="595800">
              <a:off x="40320" y="1341360"/>
              <a:ext cx="3871440" cy="5181120"/>
            </a:xfrm>
            <a:custGeom>
              <a:avLst/>
              <a:gdLst>
                <a:gd name="textAreaLeft" fmla="*/ 0 w 3871440"/>
                <a:gd name="textAreaRight" fmla="*/ 3871800 w 3871440"/>
                <a:gd name="textAreaTop" fmla="*/ 0 h 5181120"/>
                <a:gd name="textAreaBottom" fmla="*/ 5181480 h 518112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Disciples’ Respons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9880" y="2411280"/>
            <a:ext cx="502920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 disciples rebuk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 parents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ir attitude: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is is not the time”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We are doing something more important than blessing children.”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507960" y="1638360"/>
            <a:ext cx="307332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13.  Then they brought little children to Him, that He might touch them;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but the disciples rebuked those who brought them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81B3FF22-3636-4319-9565-F45CB5D0469E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Jesus’ Emotion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62160" y="2476440"/>
            <a:ext cx="472428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!!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 at the disciples’ attitu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eir “discussion” was more important than blessing children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s words were words of rebuk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9" name="Group 12"/>
          <p:cNvGrpSpPr/>
          <p:nvPr/>
        </p:nvGrpSpPr>
        <p:grpSpPr>
          <a:xfrm>
            <a:off x="-464760" y="706320"/>
            <a:ext cx="4948560" cy="6345360"/>
            <a:chOff x="-464760" y="706320"/>
            <a:chExt cx="4948560" cy="6345360"/>
          </a:xfrm>
        </p:grpSpPr>
        <p:sp>
          <p:nvSpPr>
            <p:cNvPr id="120" name="Freeform 13"/>
            <p:cNvSpPr/>
            <p:nvPr/>
          </p:nvSpPr>
          <p:spPr>
            <a:xfrm rot="595800">
              <a:off x="0" y="1009800"/>
              <a:ext cx="4019040" cy="5738400"/>
            </a:xfrm>
            <a:custGeom>
              <a:avLst/>
              <a:gdLst>
                <a:gd name="textAreaLeft" fmla="*/ 0 w 4019040"/>
                <a:gd name="textAreaRight" fmla="*/ 4019400 w 4019040"/>
                <a:gd name="textAreaTop" fmla="*/ 0 h 5738400"/>
                <a:gd name="textAreaBottom" fmla="*/ 5738760 h 573840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21" name="Freeform 14"/>
            <p:cNvSpPr/>
            <p:nvPr/>
          </p:nvSpPr>
          <p:spPr>
            <a:xfrm rot="595800">
              <a:off x="40680" y="1118520"/>
              <a:ext cx="3889440" cy="5531400"/>
            </a:xfrm>
            <a:custGeom>
              <a:avLst/>
              <a:gdLst>
                <a:gd name="textAreaLeft" fmla="*/ 0 w 3889440"/>
                <a:gd name="textAreaRight" fmla="*/ 3889800 w 3889440"/>
                <a:gd name="textAreaTop" fmla="*/ 0 h 5531400"/>
                <a:gd name="textAreaBottom" fmla="*/ 5531400 h 553140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22" name="Text Box 7"/>
          <p:cNvSpPr/>
          <p:nvPr/>
        </p:nvSpPr>
        <p:spPr>
          <a:xfrm>
            <a:off x="533520" y="1447920"/>
            <a:ext cx="2990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Humanst521 BT"/>
              </a:rPr>
              <a:t>14.  But when Jesus saw it, 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Humanst521 BT"/>
              </a:rPr>
              <a:t>He was greatly displeased and said to them, “Let the little children come to Me, and do not forbid them; for of such  is the kingdom of God.”  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0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5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0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5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082FB19D-FC28-420D-8749-EBCBB1C0A17F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How We See Children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25" name="AutoShape 11"/>
          <p:cNvSpPr/>
          <p:nvPr/>
        </p:nvSpPr>
        <p:spPr>
          <a:xfrm>
            <a:off x="380880" y="1523880"/>
            <a:ext cx="2895840" cy="1828800"/>
          </a:xfrm>
          <a:prstGeom prst="cloudCallout">
            <a:avLst>
              <a:gd name="adj1" fmla="val -58166"/>
              <a:gd name="adj2" fmla="val 62500"/>
            </a:avLst>
          </a:prstGeom>
          <a:gradFill rotWithShape="0">
            <a:gsLst>
              <a:gs pos="0">
                <a:srgbClr val="434c8d"/>
              </a:gs>
              <a:gs pos="100000">
                <a:srgbClr val="000000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ttitude #1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are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Humanst521 BT"/>
              </a:rPr>
              <a:t>bother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6" name="Text Box 12"/>
          <p:cNvSpPr/>
          <p:nvPr/>
        </p:nvSpPr>
        <p:spPr>
          <a:xfrm>
            <a:off x="6553080" y="2438280"/>
            <a:ext cx="243864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simply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wrong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athy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toward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7" name="AutoShape 13"/>
          <p:cNvSpPr/>
          <p:nvPr/>
        </p:nvSpPr>
        <p:spPr>
          <a:xfrm>
            <a:off x="380880" y="4038480"/>
            <a:ext cx="2895840" cy="1828800"/>
          </a:xfrm>
          <a:prstGeom prst="cloudCallout">
            <a:avLst>
              <a:gd name="adj1" fmla="val -56907"/>
              <a:gd name="adj2" fmla="val 64842"/>
            </a:avLst>
          </a:prstGeom>
          <a:gradFill rotWithShape="0">
            <a:gsLst>
              <a:gs pos="0">
                <a:srgbClr val="d1e8ff"/>
              </a:gs>
              <a:gs pos="100000">
                <a:srgbClr val="3399ff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Attitude #3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hildren are ou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Humanst521 BT"/>
              </a:rPr>
              <a:t>futur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8" name="AutoShape 14"/>
          <p:cNvSpPr/>
          <p:nvPr/>
        </p:nvSpPr>
        <p:spPr>
          <a:xfrm>
            <a:off x="3467160" y="1523880"/>
            <a:ext cx="2895480" cy="1828800"/>
          </a:xfrm>
          <a:prstGeom prst="cloudCallout">
            <a:avLst>
              <a:gd name="adj1" fmla="val -61625"/>
              <a:gd name="adj2" fmla="val 60592"/>
            </a:avLst>
          </a:prstGeom>
          <a:gradFill rotWithShape="0">
            <a:gsLst>
              <a:gs pos="0">
                <a:srgbClr val="3333ff"/>
              </a:gs>
              <a:gs pos="100000">
                <a:srgbClr val="434c8d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ttitude #2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are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Humanst521 BT"/>
              </a:rPr>
              <a:t>tool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9" name="AutoShape 15"/>
          <p:cNvSpPr/>
          <p:nvPr/>
        </p:nvSpPr>
        <p:spPr>
          <a:xfrm>
            <a:off x="3467160" y="4038480"/>
            <a:ext cx="2895480" cy="1828800"/>
          </a:xfrm>
          <a:prstGeom prst="cloudCallout">
            <a:avLst>
              <a:gd name="adj1" fmla="val -60583"/>
              <a:gd name="adj2" fmla="val 65972"/>
            </a:avLst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28440">
            <a:solidFill>
              <a:srgbClr val="d1e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Attitude #4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hildren ar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Humanst521 BT"/>
              </a:rPr>
              <a:t>peopl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practical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proval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preciation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2" name="Text Box 18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Jesus’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 priority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n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04" dur="1" fill="hold"/>
                                  <p:tgtEl>
                                    <p:spTgt spid="13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D4B98957-AE61-4FD4-A1EF-9E460DA028CC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Jesus’ Priority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35" name="Freeform 9"/>
          <p:cNvSpPr/>
          <p:nvPr/>
        </p:nvSpPr>
        <p:spPr>
          <a:xfrm rot="388200">
            <a:off x="2359080" y="3936960"/>
            <a:ext cx="4421160" cy="617400"/>
          </a:xfrm>
          <a:custGeom>
            <a:avLst/>
            <a:gdLst>
              <a:gd name="textAreaLeft" fmla="*/ 0 w 4421160"/>
              <a:gd name="textAreaRight" fmla="*/ 4421520 w 4421160"/>
              <a:gd name="textAreaTop" fmla="*/ 0 h 617400"/>
              <a:gd name="textAreaBottom" fmla="*/ 617400 h 617400"/>
            </a:gdLst>
            <a:ahLst/>
            <a:rect l="textAreaLeft" t="textAreaTop" r="textAreaRight" b="textAreaBottom"/>
            <a:pathLst>
              <a:path w="3125" h="389">
                <a:moveTo>
                  <a:pt x="11" y="352"/>
                </a:moveTo>
                <a:cubicBezTo>
                  <a:pt x="240" y="311"/>
                  <a:pt x="470" y="273"/>
                  <a:pt x="699" y="230"/>
                </a:cubicBezTo>
                <a:cubicBezTo>
                  <a:pt x="714" y="227"/>
                  <a:pt x="742" y="214"/>
                  <a:pt x="742" y="214"/>
                </a:cubicBezTo>
                <a:cubicBezTo>
                  <a:pt x="799" y="216"/>
                  <a:pt x="855" y="215"/>
                  <a:pt x="912" y="219"/>
                </a:cubicBezTo>
                <a:cubicBezTo>
                  <a:pt x="976" y="223"/>
                  <a:pt x="1040" y="243"/>
                  <a:pt x="1104" y="251"/>
                </a:cubicBezTo>
                <a:cubicBezTo>
                  <a:pt x="1180" y="229"/>
                  <a:pt x="1260" y="217"/>
                  <a:pt x="1339" y="214"/>
                </a:cubicBezTo>
                <a:cubicBezTo>
                  <a:pt x="1446" y="210"/>
                  <a:pt x="1659" y="203"/>
                  <a:pt x="1659" y="203"/>
                </a:cubicBezTo>
                <a:cubicBezTo>
                  <a:pt x="1703" y="199"/>
                  <a:pt x="1748" y="198"/>
                  <a:pt x="1792" y="192"/>
                </a:cubicBezTo>
                <a:cubicBezTo>
                  <a:pt x="1834" y="186"/>
                  <a:pt x="1889" y="158"/>
                  <a:pt x="1931" y="150"/>
                </a:cubicBezTo>
                <a:cubicBezTo>
                  <a:pt x="2116" y="115"/>
                  <a:pt x="2293" y="88"/>
                  <a:pt x="2480" y="80"/>
                </a:cubicBezTo>
                <a:cubicBezTo>
                  <a:pt x="2514" y="74"/>
                  <a:pt x="2539" y="67"/>
                  <a:pt x="2571" y="59"/>
                </a:cubicBezTo>
                <a:cubicBezTo>
                  <a:pt x="2595" y="42"/>
                  <a:pt x="2627" y="33"/>
                  <a:pt x="2656" y="27"/>
                </a:cubicBezTo>
                <a:cubicBezTo>
                  <a:pt x="2702" y="0"/>
                  <a:pt x="3063" y="28"/>
                  <a:pt x="3115" y="16"/>
                </a:cubicBezTo>
                <a:cubicBezTo>
                  <a:pt x="3125" y="43"/>
                  <a:pt x="2739" y="57"/>
                  <a:pt x="2731" y="85"/>
                </a:cubicBezTo>
                <a:cubicBezTo>
                  <a:pt x="2725" y="104"/>
                  <a:pt x="2610" y="117"/>
                  <a:pt x="2598" y="133"/>
                </a:cubicBezTo>
                <a:cubicBezTo>
                  <a:pt x="2459" y="133"/>
                  <a:pt x="2417" y="147"/>
                  <a:pt x="2326" y="149"/>
                </a:cubicBezTo>
                <a:cubicBezTo>
                  <a:pt x="2181" y="164"/>
                  <a:pt x="2115" y="192"/>
                  <a:pt x="1968" y="197"/>
                </a:cubicBezTo>
                <a:cubicBezTo>
                  <a:pt x="1914" y="202"/>
                  <a:pt x="1878" y="267"/>
                  <a:pt x="1824" y="272"/>
                </a:cubicBezTo>
                <a:cubicBezTo>
                  <a:pt x="1778" y="265"/>
                  <a:pt x="1626" y="256"/>
                  <a:pt x="1579" y="261"/>
                </a:cubicBezTo>
                <a:cubicBezTo>
                  <a:pt x="1474" y="271"/>
                  <a:pt x="1409" y="286"/>
                  <a:pt x="1307" y="288"/>
                </a:cubicBezTo>
                <a:cubicBezTo>
                  <a:pt x="1010" y="285"/>
                  <a:pt x="819" y="307"/>
                  <a:pt x="523" y="320"/>
                </a:cubicBezTo>
                <a:cubicBezTo>
                  <a:pt x="497" y="326"/>
                  <a:pt x="464" y="344"/>
                  <a:pt x="438" y="347"/>
                </a:cubicBezTo>
                <a:cubicBezTo>
                  <a:pt x="396" y="351"/>
                  <a:pt x="353" y="350"/>
                  <a:pt x="310" y="352"/>
                </a:cubicBezTo>
                <a:cubicBezTo>
                  <a:pt x="273" y="362"/>
                  <a:pt x="253" y="389"/>
                  <a:pt x="198" y="379"/>
                </a:cubicBezTo>
                <a:cubicBezTo>
                  <a:pt x="187" y="377"/>
                  <a:pt x="118" y="368"/>
                  <a:pt x="118" y="368"/>
                </a:cubicBezTo>
                <a:cubicBezTo>
                  <a:pt x="80" y="372"/>
                  <a:pt x="31" y="372"/>
                  <a:pt x="0" y="374"/>
                </a:cubicBezTo>
                <a:cubicBezTo>
                  <a:pt x="7" y="356"/>
                  <a:pt x="2" y="362"/>
                  <a:pt x="11" y="352"/>
                </a:cubicBezTo>
                <a:close/>
              </a:path>
            </a:pathLst>
          </a:custGeom>
          <a:solidFill>
            <a:srgbClr val="000066"/>
          </a:solidFill>
          <a:ln w="0">
            <a:noFill/>
          </a:ln>
          <a:effectLst>
            <a:outerShdw dist="153753" dir="2700000" blurRad="0" rotWithShape="0">
              <a:srgbClr val="0000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1987560" y="2106720"/>
            <a:ext cx="5160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umanst521 BT"/>
              </a:rPr>
              <a:t>If ministering to children is that important to Jesus…</a:t>
            </a:r>
            <a:endParaRPr b="0" lang="en-US" sz="4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1989000" y="4670280"/>
            <a:ext cx="516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Humanst521 BT"/>
              </a:rPr>
              <a:t>That’s all I need!</a:t>
            </a:r>
            <a:endParaRPr b="0" lang="en-US" sz="5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95B01C2D-2167-430E-A854-A3B313E4FC87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66400" y="75960"/>
            <a:ext cx="621036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Resources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560" y="2152440"/>
            <a:ext cx="8458200" cy="38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Barna, George. 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Transforming Children into Spiritual Champions.  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Ventura, CA: Regal Books, 2003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Gospel Light.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Children’s Ministry Smart Pages.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 Ventura, CA:  Gospel, 2004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London, H.B., Jr., and Neil B. Wiseman. 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For Kids’ Sake:  Winning the tug of War for Future Generations.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 Ventura, CA:  Regal Books, 2004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22:29:34Z</dcterms:created>
  <dc:creator>Larry Fowler</dc:creator>
  <dc:description/>
  <dc:language>en-US</dc:language>
  <cp:lastModifiedBy>Pamella Scott</cp:lastModifiedBy>
  <dcterms:modified xsi:type="dcterms:W3CDTF">2012-09-05T18:23:53Z</dcterms:modified>
  <cp:revision>63</cp:revision>
  <dc:subject/>
  <dc:title>The Pattern of Teaching Children</dc:title>
</cp:coreProperties>
</file>